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18B-E49F-437A-AE30-7EE47916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463-F755-4271-A353-EDFCB6D7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5E2-C8D1-4E55-BAAB-929053A3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C1E-2FF8-4E20-8414-25F27A7A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740-5920-4C91-AA87-46B85C4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AF7-541D-481B-91A1-324C963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F15-5C20-4BBA-86BE-E53EF96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D50-A5A8-42F9-A950-FAD9E323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5F5-5A9B-4172-860B-5B5BC4E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207-7DBF-44C8-9AAB-F1E45BA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B1B-1DAE-4835-A133-EB7B4BE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76C-92A8-4F99-9B28-BF98D63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3A2C-5605-4FC5-8F79-D004513F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nd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quantitative data and qualitative data and give an example of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- independent (manipulated) variables and dependent (responding)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experiments have contr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ust experiments be repea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2:14:45Z</dcterms:created>
  <dc:creator>Sussex County Public Schools</dc:creator>
  <dc:description/>
  <dc:language>en-US</dc:language>
  <cp:lastModifiedBy>Brinkman</cp:lastModifiedBy>
  <dcterms:modified xsi:type="dcterms:W3CDTF">2007-09-12T13:08:55Z</dcterms:modified>
  <cp:revision>3</cp:revision>
  <dc:subject/>
  <dc:title>Data and Variables</dc:title>
</cp:coreProperties>
</file>